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7BAF-91D5-4722-A404-E1180AF8998C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06BE-C135-4D15-8823-F1829B115C9F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535-C429-4BCF-B378-37645670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9B5-FE39-4CBA-8455-A3DF118B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C1A9-6584-4D48-ABE4-E7D7EEAC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0D3F-59D6-409E-AE14-5C64253E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19A-6F1B-4353-9856-2603A839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3999-850C-420D-8E74-3E14F4B2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984-232C-486B-AF31-3377A890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F6C-F79E-4330-AE09-C17AE13B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1339560"/>
            <a:ext cx="82296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24B-915E-4B38-96CB-4DDEF5FE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093-B043-403C-82D1-25BCAF68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BCD-1FB0-432D-8778-31C51512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FB2-927B-4E28-AD89-A912CEC7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6"/>
          <p:cNvPicPr/>
          <p:nvPr/>
        </p:nvPicPr>
        <p:blipFill>
          <a:blip r:embed="rId2"/>
          <a:srcRect l="0" t="0" r="0" b="-295"/>
          <a:stretch/>
        </p:blipFill>
        <p:spPr>
          <a:xfrm>
            <a:off x="0" y="-6840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C8D1-0973-4122-B38D-1EB1075210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F:\美工素材\校徽标志\校徽组成图.png"/>
          <p:cNvPicPr/>
          <p:nvPr/>
        </p:nvPicPr>
        <p:blipFill>
          <a:blip r:embed="rId1"/>
          <a:stretch/>
        </p:blipFill>
        <p:spPr>
          <a:xfrm>
            <a:off x="0" y="452916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1332000" y="2782800"/>
            <a:ext cx="753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课程名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参赛教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学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5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1895400"/>
          </a:xfrm>
          <a:prstGeom prst="rect">
            <a:avLst/>
          </a:prstGeom>
          <a:ln w="0">
            <a:noFill/>
          </a:ln>
        </p:spPr>
      </p:pic>
      <p:sp>
        <p:nvSpPr>
          <p:cNvPr id="52" name="矩形 6"/>
          <p:cNvSpPr/>
          <p:nvPr/>
        </p:nvSpPr>
        <p:spPr>
          <a:xfrm>
            <a:off x="9360" y="573264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2015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年    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08:58:37Z</dcterms:created>
  <dc:creator>sewjtu-gao</dc:creator>
  <dc:description/>
  <dc:language>en-US</dc:language>
  <cp:lastModifiedBy>admin</cp:lastModifiedBy>
  <cp:lastPrinted>1899-12-30T00:00:00Z</cp:lastPrinted>
  <dcterms:modified xsi:type="dcterms:W3CDTF">2015-06-09T06:16:00Z</dcterms:modified>
  <cp:revision>4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